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0D1-CF26-4D0F-8A36-8242401D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80C-6A54-45AA-A594-316ABEFF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244-CB7E-436F-8828-7CA856E7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64B-3FD6-4AF3-9F0C-B281AE99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BA9-E523-4FEC-A012-E6735810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C19-0683-4A48-8256-2CFD3077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24F-F847-4559-9944-A334E78C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3CA-62ED-4D43-8BEA-B315680E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D88-7756-4E6E-A881-43917068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79A-0F78-4477-8C37-BB4CCDF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64B-59AD-4071-9AD6-33A16307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19D-4232-4278-81E2-F00B748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F45-FADD-424F-A592-7222383A62F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06840" cy="262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  <a:ea typeface="NtMotoyaKyotai"/>
              </a:rPr>
              <a:t>の り も 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43280" y="4797000"/>
            <a:ext cx="34560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MS UI Gothic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MS UI Gothic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95280" y="18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cc"/>
                </a:solidFill>
                <a:latin typeface="Kristen ITC"/>
              </a:rPr>
              <a:t>Topic 1 Unit 2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 flipH="1">
            <a:off x="5940360" y="4581360"/>
            <a:ext cx="3060720" cy="202104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763640" y="3284640"/>
            <a:ext cx="554508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ff"/>
                </a:solidFill>
                <a:latin typeface="Ravie"/>
              </a:rPr>
              <a:t>Transport</a:t>
            </a:r>
            <a:endParaRPr b="1" lang="en-US" sz="2000" spc="1" strike="noStrike">
              <a:ln w="0">
                <a:noFill/>
              </a:ln>
              <a:solidFill>
                <a:srgbClr val="ff00ff"/>
              </a:solidFill>
              <a:latin typeface="Ravie"/>
              <a:ea typeface="Ravie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60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1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6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6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780000" y="39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school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48" name="Picture 5" descr="ambx4pml[1]"/>
          <p:cNvPicPr/>
          <p:nvPr/>
        </p:nvPicPr>
        <p:blipFill>
          <a:blip r:embed="rId1"/>
          <a:stretch/>
        </p:blipFill>
        <p:spPr>
          <a:xfrm>
            <a:off x="2556000" y="1341360"/>
            <a:ext cx="3816360" cy="271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203640" y="333360"/>
            <a:ext cx="2701800" cy="8251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がっこう</a:t>
            </a:r>
            <a:endParaRPr b="1" lang="en-US" sz="4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556000" y="4508640"/>
            <a:ext cx="3743280" cy="14346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800" spc="-1" strike="noStrike">
                <a:solidFill>
                  <a:srgbClr val="000000"/>
                </a:solidFill>
                <a:latin typeface="Arial"/>
              </a:rPr>
              <a:t>学　校</a:t>
            </a:r>
            <a:endParaRPr b="1" lang="en-US" sz="88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59040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  <a:ea typeface="NtMotoyaKyotai"/>
              </a:rPr>
              <a:t>かん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26920" y="476280"/>
            <a:ext cx="1368720" cy="1557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77080" y="549360"/>
            <a:ext cx="1366920" cy="1557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2205000"/>
            <a:ext cx="3132000" cy="42390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だい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おお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きい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is is a man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人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tanding with his arms outstretched.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大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s read as: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たい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大せつ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な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important)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だい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大学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だいがく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university)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and   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大すき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な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 (love)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おお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大きい　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big)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203640" y="2205000"/>
            <a:ext cx="2879640" cy="4570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か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ちゅう　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inside,       middle, throughout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 line is draw through the middle of a mouth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中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s read as:             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なか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when it stands alone and means inside, middle and in family names                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ちゅう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中学校     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Comic Sans MS"/>
              </a:rPr>
              <a:t>junior high school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じゅう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一日中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all day long</a:t>
            </a:r>
            <a:endParaRPr b="1" lang="en-US" sz="12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日本中　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rough Japa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156360" y="2193840"/>
            <a:ext cx="2987640" cy="43344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こ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ちい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さい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mall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is is a child with arms hanging near the body to show “small”.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小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s read as: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しょう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小学校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primary school),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小せつ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novel)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こ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小つづみ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parcel)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ちい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小さ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small)</a:t>
            </a:r>
            <a:endParaRPr b="1" lang="en-US" sz="1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924360" y="476280"/>
            <a:ext cx="1368360" cy="1557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96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58" name="Picture 12" descr="j0232431"/>
          <p:cNvPicPr/>
          <p:nvPr/>
        </p:nvPicPr>
        <p:blipFill>
          <a:blip r:embed="rId1"/>
          <a:stretch/>
        </p:blipFill>
        <p:spPr>
          <a:xfrm>
            <a:off x="2484360" y="2565360"/>
            <a:ext cx="763560" cy="58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j0232615"/>
          <p:cNvPicPr/>
          <p:nvPr/>
        </p:nvPicPr>
        <p:blipFill>
          <a:blip r:embed="rId2"/>
          <a:stretch/>
        </p:blipFill>
        <p:spPr>
          <a:xfrm>
            <a:off x="8172360" y="3933720"/>
            <a:ext cx="801720" cy="768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451640" y="692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school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61" name="Picture 5" descr="ambx4pml[1]"/>
          <p:cNvPicPr/>
          <p:nvPr/>
        </p:nvPicPr>
        <p:blipFill>
          <a:blip r:embed="rId1"/>
          <a:stretch/>
        </p:blipFill>
        <p:spPr>
          <a:xfrm>
            <a:off x="6156360" y="0"/>
            <a:ext cx="1584360" cy="1128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132000" y="0"/>
            <a:ext cx="2592360" cy="10083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学　校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68360" y="2133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rimary school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916360" y="170028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</a:rPr>
              <a:t>小学校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56000" y="1413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NtMotoyaKyotai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NtMotoyaKyotai"/>
              </a:rPr>
              <a:t>しょう がっ こう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66" name="Picture 10" descr="vqins3ab[1]"/>
          <p:cNvPicPr/>
          <p:nvPr/>
        </p:nvPicPr>
        <p:blipFill>
          <a:blip r:embed="rId2"/>
          <a:stretch/>
        </p:blipFill>
        <p:spPr>
          <a:xfrm>
            <a:off x="468360" y="692280"/>
            <a:ext cx="2016000" cy="134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6156360" y="270972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junior high school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156360" y="335772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中学校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867280" y="3068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ちゅう　がっ こう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70" name="Picture 14" descr="gmfdmgnt[1]"/>
          <p:cNvPicPr/>
          <p:nvPr/>
        </p:nvPicPr>
        <p:blipFill>
          <a:blip r:embed="rId3"/>
          <a:stretch/>
        </p:blipFill>
        <p:spPr>
          <a:xfrm>
            <a:off x="6227640" y="112536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j0345883"/>
          <p:cNvPicPr/>
          <p:nvPr/>
        </p:nvPicPr>
        <p:blipFill>
          <a:blip r:embed="rId4"/>
          <a:stretch/>
        </p:blipFill>
        <p:spPr>
          <a:xfrm>
            <a:off x="179280" y="2637000"/>
            <a:ext cx="2089080" cy="1385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468360" y="400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high school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2556000" y="299556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こう校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4211640" y="2779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こう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0" y="436572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こうとう学校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05928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NtMotoyaKyotai"/>
              </a:rPr>
              <a:t>がっ　こう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4356000" y="585144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大　学</a:t>
            </a:r>
            <a:endParaRPr b="1" lang="en-US" sz="6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427640" y="5445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だい　      が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79" name="Picture 23" descr="j0345643"/>
          <p:cNvPicPr/>
          <p:nvPr/>
        </p:nvPicPr>
        <p:blipFill>
          <a:blip r:embed="rId5"/>
          <a:stretch/>
        </p:blipFill>
        <p:spPr>
          <a:xfrm>
            <a:off x="6659640" y="4581360"/>
            <a:ext cx="1834920" cy="1781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0:42:40Z</dcterms:created>
  <dc:creator>Ministry of Education</dc:creator>
  <dc:description/>
  <dc:language>en-US</dc:language>
  <cp:lastModifiedBy>Chitose Izuno</cp:lastModifiedBy>
  <dcterms:modified xsi:type="dcterms:W3CDTF">2010-07-17T10:20:31Z</dcterms:modified>
  <cp:revision>39</cp:revision>
  <dc:subject/>
  <dc:title>Slide 1</dc:title>
</cp:coreProperties>
</file>